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F37-E9C6-4E55-8577-0ADF1565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FCD-F1CD-4CAB-AC10-EA0C36A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1F3-FB03-4EAE-830D-6D896864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DAA-F5EE-4093-9E64-FDCB5CD5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3A1-CF52-4787-88F7-C4462471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E020-4EC9-4635-80A2-BC4C81A6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E4C-2EE6-4FEE-A4B7-345B7800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B413-D810-4203-87B8-5DDDFA7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75A1-85C6-4BA0-8A05-A5BF228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7667-B0B4-4D8D-905E-C589F31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0245-C54E-42F6-801E-B89EC2E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053-7DC1-49D9-AF50-5E47354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075-8BD8-441A-937B-91B6595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2894-E79E-4E4B-9B9C-2D19846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C86-7B13-4264-922B-C08D74A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DE4C-DE13-4882-BD8E-0D46EDE4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0DD-DEEB-4010-8CD0-F5F9E7AE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267E2-E8F0-49FF-9DA8-87D7C0E1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35969-C60D-4634-B754-361B5D7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7C6F4-A3E2-4177-9511-BDC67606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FA6DF-E8E6-40CD-A51E-D9182179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6F03A-5B16-4B4D-A57B-30011BC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214-96EC-4C79-917C-E3981F8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F835F-F5F7-49C7-932C-70D62ED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F89A0-F914-45F0-82DA-34D4D3D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C24D4-99D7-4293-A7F3-DB48B79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3874A-FF6F-4CF6-8484-E53600C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6196A-85F9-490F-AC15-10162E24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E6728-82AE-42FB-9ACA-7A6A029B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FAFC0-C356-47F7-85BD-1564C977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06E56-9A14-4503-BB9D-15676526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A93A-E18C-483B-8983-390621D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C9E0-368B-428E-B98C-E983D4CA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514-B1EF-466D-B31A-B4DB5947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86E5-85F5-4EC0-AADF-A3839B9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8B74-3D3F-4061-9CAC-1B480E7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2FA8-E014-43C6-B9F6-B29C9D57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DE4C-3D30-4490-B74A-0F83B87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4AEA4-C4EF-42FA-8A63-93A3214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3548-BF60-4A22-8E9F-87F6D85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123F-8A3B-4E6C-B0F7-98AD92A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7E4D-56C8-479C-AB9E-820A39C5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B1A7-6A6F-4164-B9B1-0DCB82F0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25D-99EE-4D2A-AC9E-CA3D8770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75B-A16C-41E6-8C9F-E91638B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082-C5EE-4FF3-B464-B2E6B99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F6C-FEC1-4EAB-90E0-4EE3C5A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668-5B6D-46B8-B85C-ADD0002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777-556C-4DAE-BA9F-46193955CAA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8935-4C50-4AC7-99FA-9CAC4AC8313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E3A-710E-45BA-999E-0ECC3F08D7C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2CD-335C-467C-9539-CB0F48D49A1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щение как обмен информацией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99680" y="4143240"/>
            <a:ext cx="835812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6064"/>
                </a:solidFill>
                <a:latin typeface="Georgia"/>
              </a:rPr>
              <a:t>Общение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— сложный и многоплановый процесс установления и развития контактов между людьми, порождаемый потребностью в совместной деятельности и включающий в себя обмен информацией, выработку единой стратегии взаимодействия, восприятие и понимание другого челове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34280" y="3143160"/>
            <a:ext cx="284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авлова Анеля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учитель истории МОУ СОШ №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г. Вышнего Волочка Тверской об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ОСОБЕННОСТИ ОБЩЕНИЯ В СОВРЕМЕННОМ МИРЕ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ующееся </a:t>
            </a: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информационное общество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арактеризуется не только расширяющимися </a:t>
            </a: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возможностями накопления и переработк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о и новыми формами общ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ические средства (телефон, телеграф), заменили переписку и </a:t>
            </a: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уменьшили личные визиты и встреч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сокращается врем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дачи информационных потоков, </a:t>
            </a: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увеличивается их объем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 сокращаются расстояния между участниками общ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арактерной особенностью коммуникации становится постоянная</a:t>
            </a: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 необходимость «достраивания»,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труирования как образа партнера по коммуникации, так и правил взаимодействия с ни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Недостатки виртуального общ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2888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крытость информационного обмена сочетается с фрагментарность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достает эмоциональной насыщенности и социальной ответствен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енсивность информационных потоков значительно превосходит возможности ее осмысления и усво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4" name="Picture 2" descr="C:\Users\Владелец\Desktop\21082173_5privvet.jpg"/>
          <p:cNvPicPr/>
          <p:nvPr/>
        </p:nvPicPr>
        <p:blipFill>
          <a:blip r:embed="rId1"/>
          <a:stretch/>
        </p:blipFill>
        <p:spPr>
          <a:xfrm>
            <a:off x="5286240" y="2071800"/>
            <a:ext cx="3394080" cy="37861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357120" y="6072120"/>
            <a:ext cx="81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«Чем больше информации, тем меньше смысла». (А.Кончал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Проверьте себ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1) Чем общение отличается от коммуникации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2) Какую роль в процессе обмена информацией играет речь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3) Что препятствует точному пониманию информации в процессе общения?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) Что такое невербальные средства общения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) Чем отличается общение в информационном мир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500040" y="192888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голюбов Л.Н., Обществознание  10 класс, М., «Просвещение»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increduyble.wordpress.com/2007/0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buddingba.wordpre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kenwilsonelt.wordpress.com/2009/09/09/38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allday.ru/108708-mimi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tv.cmlt.tv/program?day=22042008&amp;tim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novy.tv/forum/viewtopic.php?f=16&amp;t=12269339&amp;start=435&amp;view=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www.dapolza.ru/view_post.php?id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6064"/>
                </a:solidFill>
                <a:latin typeface="Trebuchet MS"/>
              </a:rPr>
              <a:t>КОММУНИКАЦИЯ ИЛИ ОБЩЕНИЕ: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ецифика информационного обмена между людь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357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ение нельзя рассматривать как отправление информации какой-то передающей системой или как прием ее другой системой (в каждом коммуникативном процессе реально даны в единстве </a:t>
            </a:r>
            <a:r>
              <a:rPr b="0" lang="ru-RU" sz="2600" spc="-1" strike="noStrike">
                <a:solidFill>
                  <a:srgbClr val="326064"/>
                </a:solidFill>
                <a:latin typeface="Georgia"/>
              </a:rPr>
              <a:t>деятельность, общение и познани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редством системы знаков партнеры могут повлиять друг на друга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«важно находить общий язык» - обладание единой или сходной системой кодирования и декодирования информа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Владелец\Desktop\untitled.png"/>
          <p:cNvPicPr/>
          <p:nvPr/>
        </p:nvPicPr>
        <p:blipFill>
          <a:blip r:embed="rId1"/>
          <a:stretch/>
        </p:blipFill>
        <p:spPr>
          <a:xfrm>
            <a:off x="326880" y="2894040"/>
            <a:ext cx="2837160" cy="3630600"/>
          </a:xfrm>
          <a:prstGeom prst="rect">
            <a:avLst/>
          </a:prstGeom>
          <a:ln w="0">
            <a:noFill/>
          </a:ln>
        </p:spPr>
      </p:pic>
      <p:sp>
        <p:nvSpPr>
          <p:cNvPr id="220" name="Выноска-облако 2"/>
          <p:cNvSpPr/>
          <p:nvPr/>
        </p:nvSpPr>
        <p:spPr>
          <a:xfrm>
            <a:off x="4572000" y="285840"/>
            <a:ext cx="4429080" cy="1969920"/>
          </a:xfrm>
          <a:prstGeom prst="cloudCallout">
            <a:avLst>
              <a:gd name="adj1" fmla="val -169481"/>
              <a:gd name="adj2" fmla="val 23393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Я приготови-ла обе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3"/>
          <p:cNvSpPr/>
          <p:nvPr/>
        </p:nvSpPr>
        <p:spPr>
          <a:xfrm>
            <a:off x="428760" y="428760"/>
            <a:ext cx="4071960" cy="1500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Буквальный смыс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4000680" y="278604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риглашает к ст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4000680" y="400068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больше ничего делать н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4000680" y="528624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Ожидает каких-то ответных 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Барьеры в общени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4256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арьеры могут быть не только психологическими, но и социальными, политическими, религиозными, профессиональны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2" descr="C:\Users\Владелец\Desktop\ssora_365.jpg"/>
          <p:cNvPicPr/>
          <p:nvPr/>
        </p:nvPicPr>
        <p:blipFill>
          <a:blip r:embed="rId1"/>
          <a:stretch/>
        </p:blipFill>
        <p:spPr>
          <a:xfrm>
            <a:off x="5143680" y="2000160"/>
            <a:ext cx="35431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6064"/>
                </a:solidFill>
                <a:latin typeface="Trebuchet MS"/>
              </a:rPr>
              <a:t>СРЕДСТВА ОБЩЕНИЯ.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Передача любой информации возможна лишь посредством знаковых систем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5640"/>
            <a:ext cx="3471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рбальное общение использует систему фонетических зна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Users\Владелец\Desktop\talking.jpg"/>
          <p:cNvPicPr/>
          <p:nvPr/>
        </p:nvPicPr>
        <p:blipFill>
          <a:blip r:embed="rId1"/>
          <a:stretch/>
        </p:blipFill>
        <p:spPr>
          <a:xfrm>
            <a:off x="3714840" y="2428920"/>
            <a:ext cx="5010120" cy="35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4000680" y="2857680"/>
            <a:ext cx="17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ммуник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6715080" y="30002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ципи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6064"/>
                </a:solidFill>
                <a:latin typeface="Trebuchet MS"/>
              </a:rPr>
              <a:t>Наиболее продуктивная форма общения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Диалог –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едставляет собой последовательную смену коммуникативных ролей, в ходе которой выявляется смысл речевого сообщения, т. е. происходит то явление, которое было обозначено как «обогащение, развитие информации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C:\Users\Владелец\Desktop\Dialogue.gif"/>
          <p:cNvPicPr/>
          <p:nvPr/>
        </p:nvPicPr>
        <p:blipFill>
          <a:blip r:embed="rId1"/>
          <a:stretch/>
        </p:blipFill>
        <p:spPr>
          <a:xfrm>
            <a:off x="152280" y="1150920"/>
            <a:ext cx="5102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Модель речевого общ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2800" spc="-1" strike="noStrike">
                <a:solidFill>
                  <a:srgbClr val="326064"/>
                </a:solidFill>
                <a:latin typeface="Georgia"/>
              </a:rPr>
              <a:t>кто?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передает сообщение) — коммуникато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lang="ru-RU" sz="2800" spc="-1" strike="noStrike">
                <a:solidFill>
                  <a:srgbClr val="326064"/>
                </a:solidFill>
                <a:latin typeface="Georgia"/>
              </a:rPr>
              <a:t>что?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передается) — сообщени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lang="ru-RU" sz="2800" spc="-1" strike="noStrike">
                <a:solidFill>
                  <a:srgbClr val="326064"/>
                </a:solidFill>
                <a:latin typeface="Georgia"/>
              </a:rPr>
              <a:t>как?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осуществляется передача) — непосредственно или опосредованн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) </a:t>
            </a:r>
            <a:r>
              <a:rPr b="1" lang="ru-RU" sz="2800" spc="-1" strike="noStrike">
                <a:solidFill>
                  <a:srgbClr val="326064"/>
                </a:solidFill>
                <a:latin typeface="Georgia"/>
              </a:rPr>
              <a:t>кому?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направлено сообщение) — адрес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) </a:t>
            </a:r>
            <a:r>
              <a:rPr b="1" lang="ru-RU" sz="2800" spc="-1" strike="noStrike">
                <a:solidFill>
                  <a:srgbClr val="326064"/>
                </a:solidFill>
                <a:latin typeface="Georgia"/>
              </a:rPr>
              <a:t>с каким эффектом?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общение произошло) — эффективное или неэффективное общ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Владелец\Desktop\1237099203_1237018880_1.jpg"/>
          <p:cNvPicPr/>
          <p:nvPr/>
        </p:nvPicPr>
        <p:blipFill>
          <a:blip r:embed="rId1"/>
          <a:stretch/>
        </p:blipFill>
        <p:spPr>
          <a:xfrm>
            <a:off x="357120" y="1285920"/>
            <a:ext cx="271476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НЕВЕРБАЛЬНОЕ ОБЩ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3" descr="C:\Users\Владелец\Desktop\03230546.jpg"/>
          <p:cNvPicPr/>
          <p:nvPr/>
        </p:nvPicPr>
        <p:blipFill>
          <a:blip r:embed="rId2"/>
          <a:stretch/>
        </p:blipFill>
        <p:spPr>
          <a:xfrm>
            <a:off x="3286080" y="1714680"/>
            <a:ext cx="2130480" cy="27637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327240" y="5643720"/>
            <a:ext cx="31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6064"/>
                </a:solidFill>
                <a:latin typeface="Georgia"/>
              </a:rPr>
              <a:t>оптико-кине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 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3929040" y="4714920"/>
            <a:ext cx="3286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6064"/>
                </a:solidFill>
                <a:latin typeface="Georgia"/>
              </a:rPr>
              <a:t>паралингвистическая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то качество гол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го диапазон, тон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5572080" y="1785960"/>
            <a:ext cx="3357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6064"/>
                </a:solidFill>
                <a:latin typeface="Georgia"/>
              </a:rPr>
              <a:t>экстралингвистическа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ключение в речь пау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ругих вкрапл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пример покашли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лача,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Пространство и время организации коммуникативного процесса выступают также особой знаковой системо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357120" y="292896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хронотоп «школьного уро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вагонного попутчи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больничной пал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85840" y="5286240"/>
            <a:ext cx="284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ожиданные эфф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5"/>
          <p:cNvCxnSpPr/>
          <p:nvPr/>
        </p:nvCxnSpPr>
        <p:spPr>
          <a:xfrm flipH="1">
            <a:off x="1714320" y="4285800"/>
            <a:ext cx="2160" cy="1072440"/>
          </a:xfrm>
          <a:prstGeom prst="straightConnector1">
            <a:avLst/>
          </a:prstGeom>
          <a:ln w="76320">
            <a:solidFill>
              <a:srgbClr val="326064"/>
            </a:solidFill>
            <a:miter/>
            <a:tailEnd len="med" type="arrow" w="med"/>
          </a:ln>
        </p:spPr>
      </p:cxnSp>
      <p:pic>
        <p:nvPicPr>
          <p:cNvPr id="248" name="Picture 2" descr="C:\Users\Владелец\Desktop\varnike1.gif"/>
          <p:cNvPicPr/>
          <p:nvPr/>
        </p:nvPicPr>
        <p:blipFill>
          <a:blip r:embed="rId1"/>
          <a:stretch/>
        </p:blipFill>
        <p:spPr>
          <a:xfrm>
            <a:off x="4500720" y="3143160"/>
            <a:ext cx="4071960" cy="2333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8"/>
          <p:cNvSpPr/>
          <p:nvPr/>
        </p:nvSpPr>
        <p:spPr>
          <a:xfrm>
            <a:off x="4929120" y="564372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еожиданная откровенно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6:11:06Z</dcterms:created>
  <dc:creator>Владелец</dc:creator>
  <dc:description/>
  <dc:language>en-US</dc:language>
  <cp:lastModifiedBy>Владелец</cp:lastModifiedBy>
  <dcterms:modified xsi:type="dcterms:W3CDTF">2011-04-14T10:45:49Z</dcterms:modified>
  <cp:revision>14</cp:revision>
  <dc:subject/>
  <dc:title>Общение как обмен информацией</dc:title>
</cp:coreProperties>
</file>