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BD6F-E293-498E-8230-5E734E3F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D2E-10A2-46C4-ACD6-F9666057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FDC-1D4B-4A73-A972-12947DE8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577-3B1F-4A4A-B8F3-B5BDFF7E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DA2F-CA52-48E8-A6C1-7A713B01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A883-470F-48E1-BFB7-12A2F2E3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99AA-363C-488E-BFFA-55A46D93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3196-A11A-4BAD-85C8-D1388B68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C1A3-BE64-4819-BED7-F2FC3774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1A75-F74F-4E3E-A5C1-7AF9933F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D111-3451-42B6-956A-0B080194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98C-DF7C-4F3F-B4D5-D8C9F50A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2333-16E5-45E8-BF51-A6C39DFC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9256-EB9C-42A0-9795-E87F57C1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23A5-BEE9-47B1-9E5D-EB3FDA6C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164C-8FA1-4236-9DC8-2DEBFD9D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1479-A7AB-44A3-BBC7-F21B841A9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CCFE3-2FCB-4CF8-884D-8D9CBC18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9BCF99-0018-4EE1-99E9-EDB1989F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690F7-E1BF-4526-AD3A-58CF81D8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CC3D1-CF23-44AD-97B5-286CEE69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C12AF-E3FE-4D8D-B303-41985D89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997-1539-457B-971E-2E684E82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1ACEB-33C4-459E-A336-E4CC3E61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8E80A-4D31-48DD-A362-62867520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FA6D9-F82C-4D79-BCF4-7863EB47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4D931-2FF6-42D0-AA07-4BE7BB2A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A345E-7197-4925-B132-FDF9EDA5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6505E-346B-4DAF-87FA-EB4DF7D6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BB528-B199-4F0F-B85A-C03D188A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0A2679-ABFC-409D-817E-FB063A7D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2033BC-D034-4E3E-A341-155A991F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342AEA-0771-4566-8099-3FA014B4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E85-01E7-4C90-B288-C73FFC52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206D61-B8D5-4D33-9F19-3A2854A7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15BCF-B21E-4ACC-A47C-3544AB25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63DCFA-C417-441C-B909-55240D78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7FFC6C-DD59-4AA9-B21D-A54295EA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8EFF80-5C4B-4F25-8031-E99D774A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C68FB1-6754-4C53-8989-24B1DFCA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AD462-7E69-4104-A872-FD312667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340C5-B274-4ABB-8457-F337EC01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0341F1-45C7-421E-B3F3-ACAA03AA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AABEE-4B99-4E66-8F0F-FF124FBE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316-11FE-49CD-B666-42CC2354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08B92F-D1D0-40FA-B915-4895414B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7CE81-BD2A-4C02-846C-A49B3684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B4EC1F-5CDE-4F55-A34C-30F13285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F8F6E-88BD-4150-9B18-24FBF68E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24E67-CDF0-488A-A6D3-4A93A47C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1C8B9B-595A-42B2-BF47-5DAF5F18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38A1B3-A28D-4632-AEFB-E356A132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8A2F3-F9D9-4D8D-9466-A6FD5F61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2F722-146B-4025-B26C-808AF58C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7A0300-63F0-47BD-B7C6-A222E2E35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292-1996-4D60-9A47-438BB216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51749D-C2FA-4E6D-8179-E5E71EEB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DAD28-314B-4D7D-9EF4-61EF1BE4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42202-10BD-4F64-9279-F3D7FC4F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3B2CD-35F7-463C-B399-9A94E53C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9D8CE-8557-4DA2-8B58-C97180FF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33A26-4598-42CE-9E41-BB584099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48E3A-8B93-4AEF-AE9E-32D2597D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87697-F30C-4383-96FD-8FB7D8C7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92077-7CFB-4A2B-8579-8F1B9825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FDFD5-DE25-4819-9C83-12F4CF2E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7F1-5907-41AD-8F0D-AFCE23E6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106C1-AD05-4B6D-B074-DD722E8B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F64D2-00FB-4481-BD4B-B10A1F5F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D0464-15B2-4043-BFCA-E9A65112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2FAD12-79E1-4BE4-A3D3-33748BE4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75C389-73DD-44F9-BA6E-5DE08828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19D771-95E2-4EE5-A8F8-698C8F30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3E476A-B82A-4AC7-BC4D-B21B88CA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C41B5-685D-4AF9-8751-9F037E4B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C92438-4CF1-4232-BCF6-4664A39A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098CD6-052C-421C-ADB3-24823037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C81-A6D5-4727-B0B1-E97500AC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9CA6E9-E3CA-45F0-8674-3AF8CCBA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7118EA-FABE-434A-9624-123D739E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8242D-6C92-480E-9D29-3675AEA1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4F341B-D8BA-4780-9E31-F93108DD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8D850D-8098-4691-8C8C-929321AD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B5D25-FDED-4654-B777-5F96252E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E6741-2F07-4565-8C2F-5F7634A8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D0223-2F37-4300-B455-062695B0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4C73A-D0D8-466B-8371-96F47A2D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DF0E4-6190-4076-933A-44B3820B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859-25EA-4E23-BF18-D95BBD13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D8049-9F44-4092-86C7-2CC523C5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CAE9D-A685-4213-88F0-9C840D9F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DECE3-C8CD-4AD1-832F-58D29C05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C99EE-E43E-4EC1-8F83-816021BE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B652F-6B28-4B48-B3C2-20E80AB0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AD5AF-DD6E-4D88-84D7-D3EE19B2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53EB4-D9AB-4715-9C32-57B3D469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DFCA-698E-42AF-A858-37B292247DF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312B-5D9D-4881-8963-D2EC6630AEB5}" type="slidenum">
              <a:rPr b="1" lang="ru-RU" sz="1400" spc="-1" strike="noStrike">
                <a:solidFill>
                  <a:srgbClr val="c5d1d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93A0-A8FF-4C83-97D1-7C590CD62B82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3565-A415-4017-B807-430D0C19628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87AF-B1A7-47C3-A6F9-FDA41D4FC6D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E9A8-0DE8-47D5-B0D6-705DD1FC6F69}" type="slidenum">
              <a:rPr b="1" lang="ru-RU" sz="14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C7AB-8E37-4476-A27C-ACAA95D314ED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46b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133A-785E-4B4E-A07C-A83EA081AD5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etkere.com/assets_c/2009/03/rubakin-population-sosloviya-1912-thumb-500x508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cirota.ru/forum/images/8/8843.jpeg" TargetMode="External"/><Relationship Id="rId3" Type="http://schemas.openxmlformats.org/officeDocument/2006/relationships/image" Target="../media/image20.jpeg"/><Relationship Id="rId4" Type="http://schemas.openxmlformats.org/officeDocument/2006/relationships/hyperlink" Target="http://swordmaster.org/uploads/2008/medievalchinesearmies/imperialchinesearmiespaon6.jpg" TargetMode="External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vott.ru/?page=2676" TargetMode="External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8700"/>
                </a:solidFill>
                <a:latin typeface="Calibri"/>
              </a:rPr>
              <a:t>РОССИЯ: ОСОБЕННОСТИ ПЕРЕХОДА К НОВОМУ ВРЕМЕНИ.</a:t>
            </a:r>
            <a:endParaRPr b="0" lang="en-US" sz="4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Социально-экономическое развитие России в </a:t>
            </a:r>
            <a:r>
              <a:rPr b="1" i="1" lang="en-US" sz="2400" spc="-1" strike="noStrike">
                <a:solidFill>
                  <a:srgbClr val="ffffff"/>
                </a:solidFill>
                <a:latin typeface="Tw Cen MT"/>
              </a:rPr>
              <a:t>XVII – XVIII 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10440" y="6143760"/>
            <a:ext cx="2238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авлова Анеля Васильев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читель истории МОУ СОШ №1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. Вышнего Волочка Тверской обл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6b86"/>
                </a:solidFill>
                <a:latin typeface="Calibri"/>
              </a:rPr>
              <a:t>Крестьянство не стало в полной мере сословием.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396" name="Схема 3" descr=""/>
          <p:cNvPicPr/>
          <p:nvPr/>
        </p:nvPicPr>
        <p:blipFill>
          <a:blip r:embed="rId1"/>
          <a:stretch/>
        </p:blipFill>
        <p:spPr>
          <a:xfrm>
            <a:off x="1487520" y="1639800"/>
            <a:ext cx="61261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840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6b86"/>
                </a:solidFill>
                <a:latin typeface="Calibri"/>
              </a:rPr>
              <a:t>Признаки сословия у крестьянства: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Наследственный статус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Объединены в общины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Сформировался сословный менталитет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Внешние признаки сослов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Минимум прав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Нет сословных привилеги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Права и обязанности зафиксированы в законодательстве лишь в 1832г.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Не участвовали в работе представительных орган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C:\Users\Владелец\Desktop\image001.jpg"/>
          <p:cNvPicPr/>
          <p:nvPr/>
        </p:nvPicPr>
        <p:blipFill>
          <a:blip r:embed="rId1"/>
          <a:stretch/>
        </p:blipFill>
        <p:spPr>
          <a:xfrm>
            <a:off x="500040" y="293760"/>
            <a:ext cx="8143920" cy="61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6b86"/>
                </a:solidFill>
                <a:latin typeface="Calibri"/>
              </a:rPr>
              <a:t>К 1917 году все сословия утратили свои юридические права и превратились в классы.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402" name="Picture 2" descr="Картинка 3 из 17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2571840"/>
            <a:ext cx="3733560" cy="3809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C:\Users\Владелец\Desktop\0_24bef_d650f7ff_XL.jpg"/>
          <p:cNvPicPr/>
          <p:nvPr/>
        </p:nvPicPr>
        <p:blipFill>
          <a:blip r:embed="rId3"/>
          <a:stretch/>
        </p:blipFill>
        <p:spPr>
          <a:xfrm>
            <a:off x="4500720" y="2286000"/>
            <a:ext cx="4351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6b86"/>
                </a:solidFill>
                <a:latin typeface="Calibri"/>
              </a:rPr>
              <a:t>Россия и Европа.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405" name="Picture 2" descr="C:\Users\Владелец\Desktop\58_map_max.jpg"/>
          <p:cNvPicPr/>
          <p:nvPr/>
        </p:nvPicPr>
        <p:blipFill>
          <a:blip r:embed="rId1"/>
          <a:srcRect l="0" t="0" r="38090" b="0"/>
          <a:stretch/>
        </p:blipFill>
        <p:spPr>
          <a:xfrm>
            <a:off x="244440" y="1571760"/>
            <a:ext cx="2938320" cy="3857400"/>
          </a:xfrm>
          <a:prstGeom prst="rect">
            <a:avLst/>
          </a:prstGeom>
          <a:ln w="0">
            <a:noFill/>
          </a:ln>
        </p:spPr>
      </p:pic>
      <p:pic>
        <p:nvPicPr>
          <p:cNvPr id="406" name="Прямоугольник 4" descr=""/>
          <p:cNvPicPr/>
          <p:nvPr/>
        </p:nvPicPr>
        <p:blipFill>
          <a:blip r:embed="rId2"/>
          <a:stretch/>
        </p:blipFill>
        <p:spPr>
          <a:xfrm>
            <a:off x="781200" y="1841400"/>
            <a:ext cx="2296800" cy="657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Владелец\Desktop\icon150.jpg"/>
          <p:cNvPicPr/>
          <p:nvPr/>
        </p:nvPicPr>
        <p:blipFill>
          <a:blip r:embed="rId3"/>
          <a:stretch/>
        </p:blipFill>
        <p:spPr>
          <a:xfrm>
            <a:off x="3352680" y="1571760"/>
            <a:ext cx="4102200" cy="2641320"/>
          </a:xfrm>
          <a:prstGeom prst="rect">
            <a:avLst/>
          </a:prstGeom>
          <a:ln w="0">
            <a:noFill/>
          </a:ln>
        </p:spPr>
      </p:pic>
      <p:pic>
        <p:nvPicPr>
          <p:cNvPr id="408" name="Прямоугольник 6" descr=""/>
          <p:cNvPicPr/>
          <p:nvPr/>
        </p:nvPicPr>
        <p:blipFill>
          <a:blip r:embed="rId4"/>
          <a:stretch/>
        </p:blipFill>
        <p:spPr>
          <a:xfrm>
            <a:off x="2914560" y="4138560"/>
            <a:ext cx="3310200" cy="1085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C:\Users\Владелец\Desktop\Peter_der-Grosse_1838.jpg"/>
          <p:cNvPicPr/>
          <p:nvPr/>
        </p:nvPicPr>
        <p:blipFill>
          <a:blip r:embed="rId5"/>
          <a:stretch/>
        </p:blipFill>
        <p:spPr>
          <a:xfrm>
            <a:off x="6286680" y="3214800"/>
            <a:ext cx="2614320" cy="3419280"/>
          </a:xfrm>
          <a:prstGeom prst="rect">
            <a:avLst/>
          </a:prstGeom>
          <a:ln w="0">
            <a:noFill/>
          </a:ln>
        </p:spPr>
      </p:pic>
      <p:pic>
        <p:nvPicPr>
          <p:cNvPr id="410" name="Прямоугольник 8" descr=""/>
          <p:cNvPicPr/>
          <p:nvPr/>
        </p:nvPicPr>
        <p:blipFill>
          <a:blip r:embed="rId6"/>
          <a:stretch/>
        </p:blipFill>
        <p:spPr>
          <a:xfrm>
            <a:off x="566640" y="5151600"/>
            <a:ext cx="572472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6b86"/>
                </a:solidFill>
                <a:latin typeface="Calibri"/>
              </a:rPr>
              <a:t>Россия и Азия.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412" name="Picture 2" descr="C:\Users\Владелец\Desktop\ivan_iv-5_original.jpg"/>
          <p:cNvPicPr/>
          <p:nvPr/>
        </p:nvPicPr>
        <p:blipFill>
          <a:blip r:embed="rId1"/>
          <a:stretch/>
        </p:blipFill>
        <p:spPr>
          <a:xfrm>
            <a:off x="5610240" y="3643200"/>
            <a:ext cx="2819520" cy="3000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Картинка 2 из 41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840" y="4000680"/>
            <a:ext cx="5076720" cy="2666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Картинка 35 из 2151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4920" y="214200"/>
            <a:ext cx="3652920" cy="2778120"/>
          </a:xfrm>
          <a:prstGeom prst="rect">
            <a:avLst/>
          </a:prstGeom>
          <a:ln w="0">
            <a:noFill/>
          </a:ln>
        </p:spPr>
      </p:pic>
      <p:pic>
        <p:nvPicPr>
          <p:cNvPr id="415" name="Прямоугольник 5" descr=""/>
          <p:cNvPicPr/>
          <p:nvPr/>
        </p:nvPicPr>
        <p:blipFill>
          <a:blip r:embed="rId6"/>
          <a:stretch/>
        </p:blipFill>
        <p:spPr>
          <a:xfrm>
            <a:off x="122400" y="1262160"/>
            <a:ext cx="46749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6b86"/>
                </a:solidFill>
                <a:latin typeface="Calibri"/>
              </a:rPr>
              <a:t>Кризис традиционализма.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Отставание в военном отношении – ряд поражений вначале </a:t>
            </a:r>
            <a:r>
              <a:rPr b="1" i="1" lang="en-US" sz="2900" spc="-1" strike="noStrike">
                <a:solidFill>
                  <a:srgbClr val="000000"/>
                </a:solidFill>
                <a:latin typeface="Tw Cen MT"/>
              </a:rPr>
              <a:t>XVII</a:t>
            </a: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век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Неэффективное управление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Позднее введение крепостничества – экономическое отставание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Противостояние светской и духовной власти (церковный раскол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Прямоугольник 3"/>
          <p:cNvSpPr/>
          <p:nvPr/>
        </p:nvSpPr>
        <p:spPr>
          <a:xfrm>
            <a:off x="500040" y="5072040"/>
            <a:ext cx="8143920" cy="1428840"/>
          </a:xfrm>
          <a:prstGeom prst="rect">
            <a:avLst/>
          </a:prstGeom>
          <a:solidFill>
            <a:srgbClr val="d16349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Европеизация форсированная Петром </a:t>
            </a:r>
            <a:r>
              <a:rPr b="1" i="1" lang="en-US" sz="2400" spc="-1" strike="noStrike">
                <a:solidFill>
                  <a:srgbClr val="ffffff"/>
                </a:solidFill>
                <a:latin typeface="Tw Cen MT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затронула лишь высшие слои общества и часть городского нас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6b86"/>
                </a:solidFill>
                <a:latin typeface="Calibri"/>
              </a:rPr>
              <a:t>Российский тип феодализма.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Доминирующая роль государства (самодержавие)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Большая численность служилого сословия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Стирание грани между помещиками и вотчинниками (указ о единонаследии 1714г.)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Оформление крепостничества параллельно с формированием Российского государств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6b86"/>
                </a:solidFill>
                <a:latin typeface="Calibri"/>
              </a:rPr>
              <a:t>Рост городов. Формирование всероссийского рынка.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Создание засечных линий: Белгородская черта, Симбирская и Заволжская (цепь городов-крепостей)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Крепости-остроги в Сибири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К концу </a:t>
            </a:r>
            <a:r>
              <a:rPr b="1" i="1" lang="en-US" sz="2900" spc="-1" strike="noStrike">
                <a:solidFill>
                  <a:srgbClr val="000000"/>
                </a:solidFill>
                <a:latin typeface="Tw Cen MT"/>
              </a:rPr>
              <a:t>XVII</a:t>
            </a: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 в. насчитывалось 250 городов (без Сибири и Украины)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Инициатором строительства была центральная власть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C:\Users\Владелец\Desktop\image001.jpg"/>
          <p:cNvPicPr/>
          <p:nvPr/>
        </p:nvPicPr>
        <p:blipFill>
          <a:blip r:embed="rId1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142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6b86"/>
                </a:solidFill>
                <a:latin typeface="Calibri"/>
              </a:rPr>
              <a:t>Чем отличается новое время от средневековья?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85480" y="1752120"/>
            <a:ext cx="3214440" cy="434340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643200" y="1752120"/>
            <a:ext cx="5119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В экономике – начало развития капитализм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В общественно-политической жизни – зарождением идей правового государства и гражданского обществ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В духовно-нравственной сфере – формированием новой этики и Ренессансо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2" descr="C:\Users\Владелец\Desktop\img1.jpg"/>
          <p:cNvPicPr/>
          <p:nvPr/>
        </p:nvPicPr>
        <p:blipFill>
          <a:blip r:embed="rId1"/>
          <a:stretch/>
        </p:blipFill>
        <p:spPr>
          <a:xfrm>
            <a:off x="357120" y="1785960"/>
            <a:ext cx="30718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6b86"/>
                </a:solidFill>
                <a:latin typeface="Calibri"/>
              </a:rPr>
              <a:t>Специализация районов</a:t>
            </a:r>
            <a:r>
              <a:rPr b="0" lang="ru-RU" sz="4400" spc="-1" strike="noStrike">
                <a:solidFill>
                  <a:srgbClr val="646b86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Вологда – кружев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Ростов – финифть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Вязьма – сан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Нижний Новгород – замк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Тула – центр металлург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Вологда, Воронеж, Орел – центры торговли хлебом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Соль Вычегодская – пушнин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Соль Камская и Вологда – торговля солью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Крупнейшие всероссийские ярмарки – Архангельская, Ирбитская, Свенская, Макарьевска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429000" y="-360"/>
            <a:ext cx="541008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ОЛЛАНДСКИЙ КУПЕЦ  А.ВИНИУС СОЗДАЛ ПЕРВУЮ В РОССИИ МАНУФАКТУРУ (МЕТАЛЛУРГИЧЕСКИЕ ЗАВОДЫ ПОД ТУЛОЙ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НОСТРАННОЕ ВЛИЯНИЕ НИКОГДА НЕ БЫЛО ОПРЕДЕЛЯЮЩИМ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СНОВНЫМ ТОВАРОМ ДЛЯ ЕВРОПЫ БЫЛ РОССИЙСКИЙ ХЛЕБ И СЫРЬЕ. </a:t>
            </a:r>
            <a:endParaRPr b="0" lang="en-US" sz="32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ностранное влияние на российскую экономику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9" name="Picture 2" descr="C:\Users\Владелец\Desktop\p53_2s.jpg"/>
          <p:cNvPicPr/>
          <p:nvPr/>
        </p:nvPicPr>
        <p:blipFill>
          <a:blip r:embed="rId1"/>
          <a:stretch/>
        </p:blipFill>
        <p:spPr>
          <a:xfrm>
            <a:off x="214200" y="1500120"/>
            <a:ext cx="28670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6b86"/>
                </a:solidFill>
                <a:latin typeface="Calibri"/>
              </a:rPr>
              <a:t>Российская власть и экономика.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оминирующая роль государства в экономике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звитие хозяйства напрямую связано с потребностями оборонного характер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лный государственный контроль над финансовыми и сырьевыми ресурсами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Государственная монополия на ряд товаров (1/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оходов казны)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текциониз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Прямоугольник 3"/>
          <p:cNvSpPr/>
          <p:nvPr/>
        </p:nvSpPr>
        <p:spPr>
          <a:xfrm>
            <a:off x="500040" y="5643720"/>
            <a:ext cx="8143920" cy="914400"/>
          </a:xfrm>
          <a:prstGeom prst="rect">
            <a:avLst/>
          </a:prstGeom>
          <a:solidFill>
            <a:srgbClr val="d16349"/>
          </a:solidFill>
          <a:ln w="190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К началу царствования Петра</a:t>
            </a:r>
            <a:r>
              <a:rPr b="1" i="1" lang="en-US" sz="3200" spc="-1" strike="noStrike">
                <a:solidFill>
                  <a:srgbClr val="ffffff"/>
                </a:solidFill>
                <a:latin typeface="Tw Cen MT"/>
              </a:rPr>
              <a:t>I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– 15 мануфактур, а к концу </a:t>
            </a:r>
            <a:r>
              <a:rPr b="1" i="1" lang="en-US" sz="3200" spc="-1" strike="noStrike">
                <a:solidFill>
                  <a:srgbClr val="ffffff"/>
                </a:solidFill>
                <a:latin typeface="Tw Cen MT"/>
              </a:rPr>
              <a:t>XVIII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 в. - 3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Прямоугольник 1"/>
          <p:cNvSpPr/>
          <p:nvPr/>
        </p:nvSpPr>
        <p:spPr>
          <a:xfrm>
            <a:off x="571680" y="1714680"/>
            <a:ext cx="77151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a3d6"/>
                </a:solidFill>
                <a:uFillTx/>
                <a:latin typeface="Tw Cen MT"/>
                <a:hlinkClick r:id="rId1"/>
              </a:rPr>
              <a:t>http://vott.ru/?page=267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www.fb2book.com/?kniga=1661&amp;strn=40&amp;cht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www.lgz.ru/article/7300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www.sknew.ru/?p=13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www.bochkavpechatleniy.com/cho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swordmaster.org/2008/06/13/kitajj_skvoz_prizmu_vekov_ieroglifov_goroskopov_i_kitajjskojj_steny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www.ispu.ru/files/u2/book2/history/06tema6/kart6/rossia_perv_pol_18v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Прямоугольник 2"/>
          <p:cNvSpPr/>
          <p:nvPr/>
        </p:nvSpPr>
        <p:spPr>
          <a:xfrm>
            <a:off x="571680" y="4286160"/>
            <a:ext cx="757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historydoc.edu.ru/catalog.asp?cat_ob_no=12193&amp;ob_no=16071&amp;rt=&amp;print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www.liveinternet.ru/users/libava/post137337007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www.avanturist.org/forum/index.php?topic=972.81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www.pribaikal.ru/obl-events/article/2231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3"/>
          <p:cNvSpPr/>
          <p:nvPr/>
        </p:nvSpPr>
        <p:spPr>
          <a:xfrm>
            <a:off x="798120" y="928800"/>
            <a:ext cx="78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тература: Данилов А.А., Россия и мир. 10 класс, М., «Просвещение», 200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6b86"/>
                </a:solidFill>
                <a:latin typeface="Calibri"/>
              </a:rPr>
              <a:t>Социально-экономическое развитие России.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85840" y="1600200"/>
            <a:ext cx="8480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20-30-е гг. </a:t>
            </a:r>
            <a:r>
              <a:rPr b="1" i="1" lang="en-US" sz="2500" spc="-1" strike="noStrike">
                <a:solidFill>
                  <a:srgbClr val="000000"/>
                </a:solidFill>
                <a:latin typeface="Tw Cen MT"/>
              </a:rPr>
              <a:t>XVII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 в. – восстановление крестьянского хозяйства после Смуты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Формирование центра производства товарного хлеба (Черноземье и Ср. Поволжье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Колонизация просторов Сибир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Формирование мелкотоварного производства (солеварение на Севере и железоделательное производство в Тульско-Каширском районе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Хозяйственная специализац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Появление первых мануфактур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Формирование Всероссийского рынк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Окончательное оформление крепостного прав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C:\Users\Владелец\Desktop\132.jpg"/>
          <p:cNvPicPr/>
          <p:nvPr/>
        </p:nvPicPr>
        <p:blipFill>
          <a:blip r:embed="rId1"/>
          <a:srcRect l="3600" t="10919" r="3600" b="5039"/>
          <a:stretch/>
        </p:blipFill>
        <p:spPr>
          <a:xfrm>
            <a:off x="4214880" y="500040"/>
            <a:ext cx="4786200" cy="60595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Users\Владелец\Desktop\rubakin-population-farmers-1912-thumb-500x408.jpg"/>
          <p:cNvPicPr/>
          <p:nvPr/>
        </p:nvPicPr>
        <p:blipFill>
          <a:blip r:embed="rId2"/>
          <a:srcRect l="2268" t="0" r="1701" b="0"/>
          <a:stretch/>
        </p:blipFill>
        <p:spPr>
          <a:xfrm>
            <a:off x="142920" y="1500120"/>
            <a:ext cx="4098960" cy="43959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3"/>
          <p:cNvSpPr/>
          <p:nvPr/>
        </p:nvSpPr>
        <p:spPr>
          <a:xfrm>
            <a:off x="500040" y="142920"/>
            <a:ext cx="395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обенности развития сослов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оя в России и Европ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46b86"/>
                </a:solidFill>
                <a:latin typeface="Calibri"/>
              </a:rPr>
              <a:t>Усложнение социальной структуры.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2560" y="1752120"/>
            <a:ext cx="1857240" cy="434340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37160" rIns="137160" tIns="182880" bIns="91440" anchor="t">
            <a:normAutofit fontScale="99000"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К числу титулованных дворян, кроме «древних», относилис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spcAft>
                <a:spcPts val="1001"/>
              </a:spcAft>
              <a:buClr>
                <a:srgbClr val="ccb4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приобретшие дворянство военной и гражданской служб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spcAft>
                <a:spcPts val="1001"/>
              </a:spcAft>
              <a:buClr>
                <a:srgbClr val="ccb400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перешедшие в российское подданств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143080" y="1752120"/>
            <a:ext cx="6858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Увеличивается численность дворянства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Стираются различия между боярской и дворянской вотчиной (1714г.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Picture 1" descr="C:\Users\Владелец\Desktop\iCA3O3AV0.jpg"/>
          <p:cNvPicPr/>
          <p:nvPr/>
        </p:nvPicPr>
        <p:blipFill>
          <a:blip r:embed="rId1"/>
          <a:stretch/>
        </p:blipFill>
        <p:spPr>
          <a:xfrm>
            <a:off x="3857760" y="3714840"/>
            <a:ext cx="2214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6b86"/>
                </a:solidFill>
                <a:latin typeface="Calibri"/>
              </a:rPr>
              <a:t>Во 2-й половине </a:t>
            </a:r>
            <a:r>
              <a:rPr b="1" i="1" lang="en-US" sz="4000" spc="-1" strike="noStrike">
                <a:solidFill>
                  <a:srgbClr val="646b86"/>
                </a:solidFill>
                <a:latin typeface="Tw Cen MT"/>
              </a:rPr>
              <a:t>XVIII</a:t>
            </a:r>
            <a:r>
              <a:rPr b="1" i="1" lang="ru-RU" sz="4000" spc="-1" strike="noStrike">
                <a:solidFill>
                  <a:srgbClr val="646b86"/>
                </a:solidFill>
                <a:latin typeface="Calibri"/>
              </a:rPr>
              <a:t> в. Дворяне приобретают признаки сословия: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286080" y="1752120"/>
            <a:ext cx="5477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Права закрепляются в законах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Права становятся наследственными и безусловны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Формируется сословная организацию в виде дворянских губернских и уездных собрани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Сословный менталитет и внешние признаки сословной принадлеж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Picture 1" descr="C:\Users\Владелец\Desktop\01f914b5f57et.jpg"/>
          <p:cNvPicPr/>
          <p:nvPr/>
        </p:nvPicPr>
        <p:blipFill>
          <a:blip r:embed="rId1"/>
          <a:stretch/>
        </p:blipFill>
        <p:spPr>
          <a:xfrm>
            <a:off x="357120" y="1714680"/>
            <a:ext cx="29289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6b86"/>
                </a:solidFill>
                <a:latin typeface="Calibri"/>
              </a:rPr>
              <a:t>Духовенство – 2-е свободное сословие.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13840" y="1752120"/>
            <a:ext cx="1995480" cy="434340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57400" y="1752120"/>
            <a:ext cx="5072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Численность к концу </a:t>
            </a:r>
            <a:r>
              <a:rPr b="1" i="1" lang="en-US" sz="2900" spc="-1" strike="noStrike">
                <a:solidFill>
                  <a:srgbClr val="000000"/>
                </a:solidFill>
                <a:latin typeface="Tw Cen MT"/>
              </a:rPr>
              <a:t>XVIII</a:t>
            </a: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 в. – 216 тыс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55% - причетники, 30%- священники, 15% - дьяконы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Духовенство делилось на черное и белое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5720" indent="-31572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</a:rPr>
              <a:t>Церковь становится частью государственной структур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1" descr="C:\Users\Владелец\Desktop\Talcy-28_img_32.jpg"/>
          <p:cNvPicPr/>
          <p:nvPr/>
        </p:nvPicPr>
        <p:blipFill>
          <a:blip r:embed="rId1"/>
          <a:stretch/>
        </p:blipFill>
        <p:spPr>
          <a:xfrm>
            <a:off x="214200" y="1571760"/>
            <a:ext cx="359100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646b86"/>
                </a:solidFill>
                <a:latin typeface="Calibri"/>
              </a:rPr>
              <a:t>Городское сословие (посадские, граждане, городские обыватели).</a:t>
            </a:r>
            <a:endParaRPr b="0" lang="en-US" sz="29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85840" y="1752120"/>
            <a:ext cx="1923840" cy="4343400"/>
          </a:xfrm>
          <a:prstGeom prst="rect">
            <a:avLst/>
          </a:prstGeom>
          <a:solidFill>
            <a:srgbClr val="ccb400"/>
          </a:solidFill>
          <a:ln cap="sq" w="50760">
            <a:solidFill>
              <a:srgbClr val="ccb400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00240" y="1752120"/>
            <a:ext cx="576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Все категории были лично свободны, но имели разный уровень пра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Сословные признаки: статус передавался по наследству, собственные корпоративные организации, участие в представительном учреждении (их права были закреплены в Соборном Уложении 1649 г., а затем в Жалованной грамоте 1785 г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Реформы </a:t>
            </a:r>
            <a:r>
              <a:rPr b="1" i="1" lang="en-US" sz="2200" spc="-1" strike="noStrike">
                <a:solidFill>
                  <a:srgbClr val="000000"/>
                </a:solidFill>
                <a:latin typeface="Tw Cen MT"/>
              </a:rPr>
              <a:t>XIX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в. разрушили городское сословии (просуществовало около 100 ле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1" descr="C:\Users\Владелец\Desktop\0_2963c_6b17c001_XL.jpg"/>
          <p:cNvPicPr/>
          <p:nvPr/>
        </p:nvPicPr>
        <p:blipFill>
          <a:blip r:embed="rId1"/>
          <a:stretch/>
        </p:blipFill>
        <p:spPr>
          <a:xfrm>
            <a:off x="142920" y="1714680"/>
            <a:ext cx="24526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6b86"/>
                </a:solidFill>
                <a:latin typeface="Calibri"/>
              </a:rPr>
              <a:t>Структура городского населения:</a:t>
            </a:r>
            <a:endParaRPr b="0" lang="en-US" sz="4000" spc="-1" strike="noStrike">
              <a:solidFill>
                <a:srgbClr val="646b86"/>
              </a:solidFill>
              <a:latin typeface="Calibri"/>
            </a:endParaRPr>
          </a:p>
        </p:txBody>
      </p:sp>
      <p:pic>
        <p:nvPicPr>
          <p:cNvPr id="394" name="Схема 2" descr=""/>
          <p:cNvPicPr/>
          <p:nvPr/>
        </p:nvPicPr>
        <p:blipFill>
          <a:blip r:embed="rId1"/>
          <a:stretch/>
        </p:blipFill>
        <p:spPr>
          <a:xfrm>
            <a:off x="1407960" y="1706400"/>
            <a:ext cx="63216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8:37:49Z</dcterms:created>
  <dc:creator>Владелец</dc:creator>
  <dc:description/>
  <dc:language>en-US</dc:language>
  <cp:lastModifiedBy>Владелец</cp:lastModifiedBy>
  <dcterms:modified xsi:type="dcterms:W3CDTF">2011-03-14T12:40:28Z</dcterms:modified>
  <cp:revision>27</cp:revision>
  <dc:subject/>
  <dc:title>Россия: особенности перехода к Новому времени.</dc:title>
</cp:coreProperties>
</file>